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08EAC-698F-416C-945D-0ADF21ED8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B5103-4E73-4CC8-B1FB-AAA2520FA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FCBE4-9086-487B-87B3-5529004F7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CFC7E-D479-4F7B-925A-5C42636E3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FA445-B01D-4225-B691-9676DD346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0BEC0-1D58-47A8-A899-64D4DF6CD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72560-7CB5-4067-97DE-1F5632B2B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8B403-0325-4A88-AA1B-FE08392C4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633DF-ABDC-46DC-8F60-E74D65563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72B0B-4D28-48A6-828D-98A20251F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0C131-AA9C-4CE8-A2AD-4647E560C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0CE05-D5FB-4824-83B9-6BEEE09C1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3B4C6-CAD1-4F0F-B340-14A9AE1C0596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경상 병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경상병원과 노인병원 두 곳을 돌아가면서 실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병원 각각 운동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작업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통증 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경상병원의 운동치료실과 통증치료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노인병원을 각각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씩 돌아가기 때문에 총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에서 어디에서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를 할지 모름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교통편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셔틀버스이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버스이용은 힘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복장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가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면바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슬리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머리 단정히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무시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월 달은 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금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5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월 달은 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금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5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점심시간은 경상병원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노인병원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식비는 공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소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경상병원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실습담당선생님이 있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운동치료실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옆에 서서 관찰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환자를 맡기지 않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transfer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도 안함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전담하는 관리사가 있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통증치료실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기계사용 못하고 정리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대구대 졸업선배는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노인병원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선생님이 하루씩 돌아가며 실습생 맡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운동치료실과 통증치료실이 한 공간에 있으며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학생은 관찰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치매환자분과 상황극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연차 제일 높은 선생님이 대구대 졸업선배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레포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경상병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인데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OA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로 대신하기도 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통증치료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노인병원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두 곳 다 특별한 강의는 없음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마지막 주에 정해준 논문 번역 발표함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보건대 출신쌤이 많아서 잘 챙겨주지 않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환자 케이스가 많이 부족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계 편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환자를 직접 만질 기회가 없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장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다른 공부 하고 싶은 분 추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널널하게 실습하고 싶은 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과제 검사 까다롭지 않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3:21:46Z</dcterms:created>
  <dc:creator>경상대 컴퓨터실 프린터</dc:creator>
  <dc:description/>
  <dc:language>en-US</dc:language>
  <cp:lastModifiedBy>Staff</cp:lastModifiedBy>
  <dcterms:modified xsi:type="dcterms:W3CDTF">2009-04-11T08:04:56Z</dcterms:modified>
  <cp:revision>3</cp:revision>
  <dc:subject/>
  <dc:title>경상병원</dc:title>
</cp:coreProperties>
</file>