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F652-B436-42ED-A50A-677FBF97C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29DE-AD29-4B14-A418-2B8CE561B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A398-7070-46EC-B29C-DEEAEE42C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CCCB-7927-49B7-9468-80AAA0283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A3DB9-641E-4863-AC1E-271ACD90B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7B5D4-E391-4FB0-B870-676726C8A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B1F71-B3F5-4326-8B1F-66DF255C8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0CC39-CBD3-428C-BD20-D64D901D2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2B9FB-7AA9-435D-96DE-96A07F586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53C79-B8C0-4D8D-BB47-F8EC0E598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85229-C8EB-4791-9620-FE5A60AED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3A01-C447-44CC-85C0-89CF81800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15180-1B6E-47E8-AB2E-615109A77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D6125-A4D9-4F54-8696-271630B60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33656-6544-4EF7-8BED-E14EEDF01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CEFDF-4025-40C1-A21B-C116C5FCB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DE0F2-B704-43C9-A091-B203B579D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551A-794F-4216-8087-FDC368E57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A26E-3459-4BA6-8CD5-AC99AA6C6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9F4A-0935-47CB-923B-C83D57195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5865-C8A5-4461-B20E-D50F95D6B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0069-17ED-43E6-B170-73816A523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61DC-62B4-476C-A43A-808D2429B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D092-CCA9-41B1-BEBA-DB6C1BD6B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D92F4-E390-49B5-83D1-58BC842E33F2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3C722-4C4A-4598-855E-11C12BCC7756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장 학습장애아 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념과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10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1.7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통 이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환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low achievemen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7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반복 학습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slow learner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e5ffff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의 이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좌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선형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계적과 체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논리적과 계획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청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실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우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종합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무선적과 비형식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직관적과 우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상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두뇌의 미세 기능 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차이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인지적 결함의 오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인 원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처리의 한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인 영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특수아동 출현율 중 가장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학습장애의 분류 및 특성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의 유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정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쓰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말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듣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셈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0%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 읽기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동적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진단 평가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특수교육진흥법에서는 학습장애를 진단 평가하는 도구로는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2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초학습기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3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학습준비도 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4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지각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5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각운동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6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각운동통합발달검사 등을 제시하였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진정한 평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수행평가와 교육과정중심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Authentic Assessment: ‘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실제’의 생활에서 읽고 쓰는 능력을 가장 밀접하게 사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속적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수학습에 정보를 제공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과정에 통합되어져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달에 있어서 적절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자아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평가를 인식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활동적인 협동학습이 가능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참고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Fuuntas &amp; Pinnell, 2001, p.484)  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습의 필수조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주의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중재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동기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효과적인 교수활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읽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쓰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난독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질문하세요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484360" y="1916280"/>
            <a:ext cx="417528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03:52:24Z</dcterms:created>
  <dc:creator>.</dc:creator>
  <dc:description/>
  <dc:language>en-US</dc:language>
  <cp:lastModifiedBy>f</cp:lastModifiedBy>
  <dcterms:modified xsi:type="dcterms:W3CDTF">2007-04-05T02:46:59Z</dcterms:modified>
  <cp:revision>8</cp:revision>
  <dc:subject/>
  <dc:title>제 5장 과학교육과정</dc:title>
</cp:coreProperties>
</file>